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429F-23C9-4429-9BAB-F8312A8EA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FFD0-8D9C-4B4F-ADEA-82F28A52B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0D7-50F1-47B5-9571-00C23B0B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8D1-59D6-4E87-BB38-D84D6F7D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55A-61C1-457E-8C56-F7C4EB22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07B-E0CB-4AA2-91B0-DBC9F98C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5D5-2AFC-4530-AF02-D03164D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112-8E49-41D1-9FF3-75D7EFF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B60-0515-4E6F-B101-A553B584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8F0-127E-4D7A-B249-3181FF1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AE1-325F-40A5-B6F3-36F97990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54E-6721-4534-BDFD-8F55148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171-CE58-4F6A-8BD0-247B33F4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F15-BE2D-49D5-8008-8F7430F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045A-B67E-4EAD-BFA0-4C643272FF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olicy.cps.k12.il.us/documents/705.5.pd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2895480"/>
            <a:ext cx="4647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ndell Philli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ademy High Schoo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brary Media Cente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d Computer Laborat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-304920" y="5388120"/>
            <a:ext cx="4572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s Boy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Library Media Speciali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Kim\Pictures\wildcat-jpg.gif"/>
          <p:cNvPicPr/>
          <p:nvPr/>
        </p:nvPicPr>
        <p:blipFill>
          <a:blip r:embed="rId1"/>
          <a:stretch/>
        </p:blipFill>
        <p:spPr>
          <a:xfrm>
            <a:off x="304920" y="1676520"/>
            <a:ext cx="3359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MC -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Staff Hour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:00 a.m. – 3:00 p.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Service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rculating library and referenc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llection, internet access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nt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05 cents per page charge for pri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Loan Perio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oks may be checked out for tw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 week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fines are .10 cents per 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MC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achers may send up to 5 students to the LMC during class time on a pas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students must have an assignment to complet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udents must remain in the LMC until the end of the period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stroom passes will not be gi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stitute teachers are not allowed to bring students to the LM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visiting the LMC on a pass are not to enter when the center is in use by another cla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musformation.com/pics/rules.jpg"/>
          <p:cNvPicPr/>
          <p:nvPr/>
        </p:nvPicPr>
        <p:blipFill>
          <a:blip r:embed="rId1"/>
          <a:stretch/>
        </p:blipFill>
        <p:spPr>
          <a:xfrm>
            <a:off x="1219320" y="380880"/>
            <a:ext cx="1598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hicago Public Schools Acceptable Use Polic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UDENT CODE OF CONDUCT FOR THE CHICAGO PUBLIC SCHOO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THE 2010-2011 SCHOOL YEAR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ction: 705.5, Board Report: 10-0728-PO2 - Date of Adoption: July 28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olicy.cps.k12.il.us/documents/705.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1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7 Use of the CPS Network for the purpose of accessing non-educat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terials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2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-11 Use of the CPS Network for the purposes of distribution 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wnloading non-educational mater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3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-13 Use of the CPS Network or any Information Technology Device fo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y unauthorized purpose not otherwise listed in this Co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4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4-12 Knowingly or intentionally using the CPS Network or Inform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y Devices to spread viruses to the CPS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5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5-14 Use of any computer, including social networking websites, or use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y information technology device, or hacking into the CPS Network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lk, harass, bully or otherwise intimidate others, to access stud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ords or other unauthorized information, and/or to otherwise cause 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urity haz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6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-2 Intentionally causing or attempting to cause all or a portion of the C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twork to become inoper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RVENTIONS AND CONSEQUE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acher-Student-Resource Person-Administrator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School Suspension (one to five day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tention -Before School -After School -Satur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spension (one to ten days) and/or Disciplinary Reassignment per Area appro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spension of CPS Network Privileges for improper use of the CPS Network or Inform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y Devices for up to one year in addition to other disciplinary actions listed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nch Period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unch time passes are distributed between 8:00am – 8:20am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must be in uniform, have their ID and an assignment to complet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No service is given to students without I.D. badge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5 students will be allowed to use the Library Media Center/Computer Lab during lunc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udents may not sign for other students on the sign-in she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olored, dated pass is given to each student who signs for lunch-time acces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http://studenthacks.org/wp-content/uploads/2007/10/reading1.jpg"/>
          <p:cNvPicPr/>
          <p:nvPr/>
        </p:nvPicPr>
        <p:blipFill>
          <a:blip r:embed="rId1"/>
          <a:stretch/>
        </p:blipFill>
        <p:spPr>
          <a:xfrm>
            <a:off x="0" y="0"/>
            <a:ext cx="22399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0481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ou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0:00 AM - 06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ues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2:00 PM - 08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ednes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0:00 AM - 06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urs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2:00 PM - 08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ri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:00 AM -   05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tur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:00 AM -   05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n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Students can access books, magazines, computers with a valid Chicago Public Library card.  Please see Ms Boyd for more inform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pfGuA6A67PPPyz0M:" descr="http://t2.gstatic.com/images?q=tbn:GuA6A67PPPyz0M:http://burnhamplan100.uchicago.edu/files/images/Chicago%2520Public%2520Library.jpg"/>
          <p:cNvPicPr/>
          <p:nvPr/>
        </p:nvPicPr>
        <p:blipFill>
          <a:blip r:embed="rId1"/>
          <a:stretch/>
        </p:blipFill>
        <p:spPr>
          <a:xfrm>
            <a:off x="304920" y="228600"/>
            <a:ext cx="162216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Branch Photo"/>
          <p:cNvPicPr/>
          <p:nvPr/>
        </p:nvPicPr>
        <p:blipFill>
          <a:blip r:embed="rId2"/>
          <a:stretch/>
        </p:blipFill>
        <p:spPr>
          <a:xfrm>
            <a:off x="3809880" y="1600200"/>
            <a:ext cx="2838600" cy="1590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1447920" y="461520"/>
            <a:ext cx="7696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hicago Publi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King Branch - 3436 South King Drive - Chicago, IL 606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Phone:  (312) 747-7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-838080" y="-952560"/>
            <a:ext cx="1082016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t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wy Decimal System of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Fiction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’s –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10 American literature in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11 Po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20 English &amp; Old English lit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80 Hellenic literatures; Classical Gr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ttp://wphillipslibrary.wikispaces.com/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PS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TeachingBooks.net"/>
          <p:cNvPicPr/>
          <p:nvPr/>
        </p:nvPicPr>
        <p:blipFill>
          <a:blip r:embed="rId1"/>
          <a:stretch/>
        </p:blipFill>
        <p:spPr>
          <a:xfrm>
            <a:off x="380880" y="2209680"/>
            <a:ext cx="312444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04920" y="2971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books.net/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t%20Finder"/>
          <p:cNvPicPr/>
          <p:nvPr/>
        </p:nvPicPr>
        <p:blipFill>
          <a:blip r:embed="rId2"/>
          <a:stretch/>
        </p:blipFill>
        <p:spPr>
          <a:xfrm>
            <a:off x="304920" y="4114800"/>
            <a:ext cx="327636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.gale.com/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tudent%20Resource%20Center"/>
          <p:cNvPicPr/>
          <p:nvPr/>
        </p:nvPicPr>
        <p:blipFill>
          <a:blip r:embed="rId3"/>
          <a:stretch/>
        </p:blipFill>
        <p:spPr>
          <a:xfrm>
            <a:off x="6172200" y="205740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5804640" y="32767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.gale.com/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ritannica2"/>
          <p:cNvPicPr/>
          <p:nvPr/>
        </p:nvPicPr>
        <p:blipFill>
          <a:blip r:embed="rId4"/>
          <a:stretch/>
        </p:blipFill>
        <p:spPr>
          <a:xfrm>
            <a:off x="5562720" y="4114800"/>
            <a:ext cx="27255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172200" y="4955760"/>
            <a:ext cx="165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ool.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905120" y="12193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ndell Phillips:  1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yor Daley’s Book Clu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36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esday, October 26,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:00pm to 4:00p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brary Media Ce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ors:  Ms Boyd and Ms Ebrigh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lindblomlibrary.typepad.com/.a/6a00d83561c4ba69e2010534aee23f970b-800wi"/>
          <p:cNvPicPr/>
          <p:nvPr/>
        </p:nvPicPr>
        <p:blipFill>
          <a:blip r:embed="rId1"/>
          <a:stretch/>
        </p:blipFill>
        <p:spPr>
          <a:xfrm>
            <a:off x="990720" y="1447920"/>
            <a:ext cx="2743200" cy="2530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img1.fantasticfiction.co.uk/images/n59/n298541.jpg"/>
          <p:cNvPicPr/>
          <p:nvPr/>
        </p:nvPicPr>
        <p:blipFill>
          <a:blip r:embed="rId2"/>
          <a:stretch/>
        </p:blipFill>
        <p:spPr>
          <a:xfrm>
            <a:off x="5791320" y="1219320"/>
            <a:ext cx="2361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gend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n overview of servi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fore/After Pi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/Classroom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bases/Wiki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isure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magazines.bmp"/>
          <p:cNvPicPr/>
          <p:nvPr/>
        </p:nvPicPr>
        <p:blipFill>
          <a:blip r:embed="rId1"/>
          <a:stretch/>
        </p:blipFill>
        <p:spPr>
          <a:xfrm>
            <a:off x="304920" y="5181480"/>
            <a:ext cx="280980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slj0807_feat_StreetFight.jpg"/>
          <p:cNvPicPr/>
          <p:nvPr/>
        </p:nvPicPr>
        <p:blipFill>
          <a:blip r:embed="rId2"/>
          <a:stretch/>
        </p:blipFill>
        <p:spPr>
          <a:xfrm>
            <a:off x="609480" y="1447920"/>
            <a:ext cx="2190960" cy="1990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www.westath.org/images/graphic_novels.JPG"/>
          <p:cNvPicPr/>
          <p:nvPr/>
        </p:nvPicPr>
        <p:blipFill>
          <a:blip r:embed="rId3"/>
          <a:stretch/>
        </p:blipFill>
        <p:spPr>
          <a:xfrm>
            <a:off x="5334120" y="1523880"/>
            <a:ext cx="349704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t0.gstatic.com/images?q=tbn:ANd9GcT1jPuspcCRDmbkd3nXNVFscMDM9qCtuUHnibRKSNZgjeAANR0&amp;t=1&amp;usg=__biaw6hvawL498S1jdX9koNGZPAI="/>
          <p:cNvPicPr/>
          <p:nvPr/>
        </p:nvPicPr>
        <p:blipFill>
          <a:blip r:embed="rId4"/>
          <a:stretch/>
        </p:blipFill>
        <p:spPr>
          <a:xfrm>
            <a:off x="5257800" y="5105520"/>
            <a:ext cx="3467160" cy="131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howtodrawhowtopaint.com/images/howtodraw/HowToDraw/how%20to%20draw%20comics%20the%20marvel%20way%20book%20stan%20lee%20large%20picture%20image%20isbn%200671530771.jpg"/>
          <p:cNvPicPr/>
          <p:nvPr/>
        </p:nvPicPr>
        <p:blipFill>
          <a:blip r:embed="rId5"/>
          <a:stretch/>
        </p:blipFill>
        <p:spPr>
          <a:xfrm>
            <a:off x="3200400" y="2590920"/>
            <a:ext cx="1828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ttp://wphillipslibrary.wikispaces.com/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My logo.bmp"/>
          <p:cNvPicPr/>
          <p:nvPr/>
        </p:nvPicPr>
        <p:blipFill>
          <a:blip r:embed="rId1"/>
          <a:stretch/>
        </p:blipFill>
        <p:spPr>
          <a:xfrm>
            <a:off x="380880" y="304920"/>
            <a:ext cx="2210040" cy="2601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04920" y="3429000"/>
            <a:ext cx="883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University A&amp;M College  grad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r of Easy Fiction and Stree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 for three 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O REA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352680" y="11430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s Boy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library 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library 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WPHS.bmp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LMC October, 20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5" descr="computer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onst.gif"/>
          <p:cNvPicPr/>
          <p:nvPr/>
        </p:nvPicPr>
        <p:blipFill>
          <a:blip r:embed="rId2"/>
          <a:stretch/>
        </p:blipFill>
        <p:spPr>
          <a:xfrm>
            <a:off x="0" y="2666880"/>
            <a:ext cx="23432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MC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school rules apply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brary Media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r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gum/can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ell phon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I-Pods/MP-3 P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musformation.com/pics/rules.jpg"/>
          <p:cNvPicPr/>
          <p:nvPr/>
        </p:nvPicPr>
        <p:blipFill>
          <a:blip r:embed="rId1"/>
          <a:stretch/>
        </p:blipFill>
        <p:spPr>
          <a:xfrm>
            <a:off x="5410080" y="2819520"/>
            <a:ext cx="33339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8:55:13Z</dcterms:created>
  <dc:creator>KCBoyd</dc:creator>
  <dc:description/>
  <dc:language>en-US</dc:language>
  <cp:lastModifiedBy>KCBoyd</cp:lastModifiedBy>
  <dcterms:modified xsi:type="dcterms:W3CDTF">2010-10-13T13:48:13Z</dcterms:modified>
  <cp:revision>138</cp:revision>
  <dc:subject/>
  <dc:title>The New Wendell Phillips  Academy High School  Library Media Center  and Computer Laboratory</dc:title>
</cp:coreProperties>
</file>